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227-A2AB-4D85-A62A-C9BBC324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407-6C35-468B-B963-430D18B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221-0354-4111-AC85-D2FBCC29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40F-6026-4D6F-BFCB-5BA2CDB7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E48A-2E38-4761-8183-F11E1DD5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3FA5-A495-4C0A-8A2D-C2CEF75A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580B-C5F9-4BA0-AEC1-89FA3C1E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5D42-2638-403F-A71E-5712AE6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E461-F33E-438A-ABB0-DADD81E5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37C8-4AB1-4002-B581-952FB8D3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7070-7789-42E0-BE0B-239691C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BB7-A6A5-4E14-AA6D-DE071E7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C325-470F-4D86-9CE6-B4A74A6D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F638-E6CC-4DC5-B978-E41EE83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6E74-A09B-4A3B-B8F0-2EF673E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AFEE-80C7-4BEF-B21C-87B0BD2C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F36B-FFC6-44A4-B457-7E86A576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A33-69FB-48E1-9D48-B2903DDE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481-5779-41DF-A51C-0FF947A2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575-8157-41AB-9ACD-ECC6081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8D6-0D3C-425D-9A86-E4F6CA5E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0C4-8FC0-4EBD-8BD5-FD990B7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57A-3DD2-4035-B52D-D59F0C9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4A9-D5F1-46ED-B912-BD4DB49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3DFD2-8C0D-4199-BC3C-E01B01F646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399B0-8984-4E40-8183-E993D28816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026AB-6554-4915-9A3A-6C963BA023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C55D8-3C75-4B4B-A1E3-B4B198F900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sdmanuals.com/professional/pediatrics/endocrine-disorders-in-children/diabetes-in-children-and-adolescent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1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83" name="Picture 12" descr=""/>
            <p:cNvPicPr/>
            <p:nvPr/>
          </p:nvPicPr>
          <p:blipFill>
            <a:blip r:embed="rId1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4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Calibri Light"/>
              </a:rPr>
              <a:t>Training Module CPG T1DM - Diagnosis, Risk Factors,            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Calibri Light"/>
              </a:rPr>
              <a:t>Co-Morbidities &amp; Treatment Goal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54440" y="407808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Fuziah Md. Z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 Endocrinologist, Hospital Putrajaya, Putrajay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Cheah Yee Ke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ian, Hospital Tuanku Ja’afar, 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Zahidah Mohd. Kas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Paediatrician, Hospital Kajang, Selang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755640" y="2992320"/>
            <a:ext cx="2073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3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present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28560" y="1590480"/>
            <a:ext cx="7886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cally, T1DM children &amp; adolescents present with history of polyuria, polydipsia &amp; weight loss over 2 - 6 wee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m can have rapid onset of symptoms within days &amp; present in diabetic ketoacidosis (DKA), while others can have a slower onset of symptoms over several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inical presentation of T1DM can vary from non-emergency to emergency situ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44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Non-emergency present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Recent onset of enuresis in previously toilet-trained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aginal candidiasis especially in pre-pubertal gir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hronic weight loss or failure to gain weight in growing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Recurrent skin in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50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Emergency present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Moderate to severe 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Frequent vom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Abdominal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ontinuing polyuria despite the presence of 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Weight loss due to fluid loss, &amp; loss of muscle &amp; f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Acetone-smelling br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Hyperventi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Decreased level of conscious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5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Diagnostic difficulties may lead to late diagnos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28560" y="1902960"/>
            <a:ext cx="78868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yperventilation during DKA may be misdiagnosed as pneumonia or asth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dominal pain associated with DKA can be mistaken as acute abdomen leading to unnecessary surgical referr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yuria &amp; enuresis may be misdiagnosed as a urinary tract inf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ydipsia may be thought to be psychogenic in orig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miting may be misdiagnosed as gastroenteritis or sep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ired level of consciousness can be misdiagnosed as meningitis/encepha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refore, healthcare providers should have a high index suspicion of diabetes mellitus/DKA when managing such sick child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28560" y="982800"/>
            <a:ext cx="788688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s: the most susceptible haplotypes are the DRB1*0301- DQA1*0501-DQB1*0201 &amp; the DRB1*0405-DQA1*0301-DQB1 *0302, DRB1*0401-DQA1*0301-DQB*0302, &amp; DRB1*0402-DQA1*0301-DQB1*030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,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GAD antibody &amp;/or IA-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birth weight (&gt;4 k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introduction of cow’s milk before 3 months of ag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 growth within first 2 years of li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ovirus infect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energy food intake especially disaccharides &amp; sucro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. Erlich H, et al. Diabetes. 2008;57(4):1084-1092; 11. Lambert AP,  et al. J Clin Endocrinol Metab.      2004;89(8):4037-4043; 12. Knip M, et al. Diabetes Care. 2010;33(6):1206-1212; 13. Harder T, et al. Am J Epidemiol. 2009;169(12):1428-1436, 14. Hyppönen E, et al. Diabetes Care. 2000;23(12):1755-1760, 15. EURODIAB Substudy 2 Study Group. Diabetes Care. 2002;25(10):1755-1760, 16. Yeung WC, et al. BMJ. 2011;342:d35, 17. Pundziute-Lyckå A, et al. Diabetes Care. 2004;27(12):2784-278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4428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stfeeding of any dur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amp; vitamin D supplementation in early childhoo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8-1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possible protective factors against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nal pre-eclampsi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amp; childhood vaccin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ot associated with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. Zipitis CS, et al. Arch Dis Child. 2008;93(6):512-5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. Hyppönen E, et al. Lancet. 2001;358(9292):1500-15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. Henry EB, et al. Diabet Med. 2011;28(8):900-9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. DeStefano F, et al. Pediatrics. 2001;108(6):E1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74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18960"/>
            <a:ext cx="7886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-morbodi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220400"/>
            <a:ext cx="78868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morbidites are medical conditions that co-exist with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s with T1DM have higher prevalence of autoimmune diseases compared with patients without diabete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alence of high anti-thyroid peroxidase antibody (aTPO) &amp;/or anti-thyroglobulin antibody ranges between 4.5% &amp; 29.4%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3, 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onger the duration of T1DM, the higher the tendencies of developing thyroid autoimmunity (p&lt;0.001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of thyroid function by measurement of TSH &amp; aTPO antibody is recommended at the diagnosis of diabetes &amp; biennially thereafter in asymptomatic individuals without goitre or in the absence of thyroid autoantibodie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. Kota SK, et al. Diabetes Metab Syndr. 2012;6(2):70-7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. Shiva S, et al. Open J Immunol. 2013;3(1):37-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4. Kordonouri O, et al. Diabetes Care. 2002;25(8):1346-13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80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40968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-morboditi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383840"/>
            <a:ext cx="7886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eliac disease is mostly asymptomatic in patients with T1DM &amp; the disease can only be detected in these patients by serologic screening using anti-endomysium antibody &amp;/or tissue transglutaminase antibody, &amp; confirmatory diagnosis using intestinal biops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eliac disease prevalence is unknown in Malaysia &amp; therefore screening for the disease should be done in suspected c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adrenal insufficiency has also been found in T1DM with a prevalence of 0.7%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 prevalence is low, clinicians should be aware of the symptoms &amp; signs of adrenal insufficiency in patients with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8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542880" y="2200320"/>
            <a:ext cx="81313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91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Treatment targets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  <a:ea typeface="SimSu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28560" y="1590480"/>
            <a:ext cx="78868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ment of the ideal BG level (near physiological glucose contr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ignificant hypoglycaemia or recurrent DKA through self-monitoring of blood glucose (SMBG) &amp; optimal HbA1c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ence of hypoglycaemia unawar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growth &amp;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psychosocial development &amp; adjustment in dealing with a chronic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long-term diabetic com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90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ble to diagnose type 1 diabetes mellitus (T1DM) confid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the risk factors of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ware of the medical conditions that coexist with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the treatment targets of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97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98520"/>
            <a:ext cx="7886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bA1c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28560" y="1355400"/>
            <a:ext cx="7886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ycated haemoglobin (HbA1/HbA1c) reflects the levels of glycaemia over the preceding 4 - 12 week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A1c monitoring has been shown to be the most useful measure in evaluating metabolic control &amp; predicts long-term microvascular &amp; macrovascular outc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patient should have a minimum of 1 measurement of HbA1c per year, ideally 3 to 6 measurements per year depending on age &amp; degree of glycaemic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A1c may be affected by a variety of genetic, haematologic &amp; illness-related factors such as haemoglobinopathy, certain anaemia &amp; disorder associated with accelerated red cell turnover such as malaria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7. World Health Organization. Geneva: WHO;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03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646200"/>
            <a:ext cx="7886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bA1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7" name="Content Placeholder -1" descr=""/>
          <p:cNvPicPr/>
          <p:nvPr/>
        </p:nvPicPr>
        <p:blipFill>
          <a:blip r:embed="rId2"/>
          <a:stretch/>
        </p:blipFill>
        <p:spPr>
          <a:xfrm>
            <a:off x="628560" y="1798560"/>
            <a:ext cx="7886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09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0600" y="65196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bA1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28560" y="21650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bA1c expressed in IFCC values (mmol/mol) can be converted to DCCT values (%) by using the following eq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939960" y="3624120"/>
            <a:ext cx="7462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1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CCT &amp; IFCC Conversion Tables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1643040" y="1609560"/>
            <a:ext cx="59799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2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 indicators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ycaemic control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608040" y="1690560"/>
            <a:ext cx="7958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2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 indicators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ycaemic contro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604800" y="1379520"/>
            <a:ext cx="7962840" cy="115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606600" y="2502000"/>
            <a:ext cx="79610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35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410760"/>
            <a:ext cx="788688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Growth &amp; Puber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28560" y="1260360"/>
            <a:ext cx="78868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1DM is a chronic disease of childhood &amp; it potentially affects the growth, onset of puberty &amp; pubertal development of the patient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8, 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1DM patients require monitoring of their growth &amp; physical development. This can be achieved by plotting anthropometric measurements using appropriate percentile charts &amp; mid-parental h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significant impairment in growth during puberty in young patients with T1DM &amp; microalbuminuria which could be due to suboptimal glycaemic control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ertal onset is delayed in children &amp; adolescents with less well-regulated T1DM &amp; it increases with higher HbA1c level &amp; lower BMI standard deviation scor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8. Rohrer T, et al. Eur J Endocrinol. 2007;157((5):):647-65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9. Elamin A, et al. J Diabetes Complications. 2006;20(4):252-25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. Marcovecchio ML, et al. Pediatr Diabetes. 2014;15(4):303-3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41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428760" y="2371680"/>
            <a:ext cx="83088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4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658440"/>
            <a:ext cx="7886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626840"/>
            <a:ext cx="78868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agnosis of DM in children &amp; adolescents should be made based on clinical features &amp; biochemical criteria (WHO criteria*) &amp; autoantibodies testing should be done to confirm the diagnosis of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of thyroid function &amp; measurement of antithyroid peroxidase antibody should be done at diagnosis of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atients with T1DM should aim to achieve glycaemic targets to maintain normal growth &amp; pubertal development, while avoiding severe hypoglycaem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ents with T1DM &amp; hypoglycaemia unawareness should perform more frequent self-monitoring of B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1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2" name="Picture 12" descr=""/>
            <p:cNvPicPr/>
            <p:nvPr/>
          </p:nvPicPr>
          <p:blipFill>
            <a:blip r:embed="rId1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4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ff"/>
                </a:solidFill>
                <a:latin typeface="Calibri Ligh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9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28560" y="1603080"/>
            <a:ext cx="78868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1 diabetes mellitus (T1DM) is the most common type of diabetes mellitus in children &amp; adolesc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1DM is a chronic disease which is associated with various complications including retinopathy, nephropathy, neuropathy &amp; cardiovascular morbid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urate classification of diabetes &amp; proper management of these children to achieve glycaemic target is of utmost impor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0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31560"/>
            <a:ext cx="78868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28560" y="1044720"/>
            <a:ext cx="7886880" cy="56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DM is primarily due to pancreatic islet β-cell destruction leading to severe insulin deficiency &amp; manifested by low or undetectable plasma concentration of C-peptid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rs of the immune-mediated β-cell destruction process include glutamic acid decarboxylase (GAD) antibody, insulin autoantibodies (IAA), anti-islet antibody (ICA), protein thyrosine phosphatase antibody (ICA512 or IA2A) &amp; zinc transporter 8 (ZnT8)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han 90% of patients with newly diagnosed T1DM have more than one of these autoantibodie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 with false negative antibodies can be due to diminished titre over the course of the diseas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. Brook CGD, et al. Sussex: Wiley-Blackwell;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 Chiang JL, et al. Diabetes Care. 2014;37(7):2034-205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0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6840" y="1260360"/>
            <a:ext cx="8217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agnosis of DM should be made based on the presence or absence of symptoms &amp; biochemical criteria according to WHO Diagnostic Criteria (1999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7. World Health Organization. Geneva: WHO;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81040" y="2714760"/>
            <a:ext cx="8080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15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66400"/>
            <a:ext cx="78868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28560" y="1179360"/>
            <a:ext cx="78868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s with T1DM can present acutely with severe symptoms, &amp; frequently with ketoacidosis. The diagnosis can be confirmed quickly with blood glucose (BG) value without waiting for another day as urgent treatment is n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presence of mild symptoms, the diagnosis of diabetes should never be made on a single abnormal BG value. Oral glucose tolerance test (OGTT) is rarely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ole of HbA1c alone in the diagnosis of diabetes mellitus remains unclear &amp; diabetes cannot be excluded when the value is &lt;6.5%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. International Society for Pediatric and Adolescent Diabetes (ISPAD). Oxford: Wiley  Blackwell;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21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28560" y="1358640"/>
            <a:ext cx="788688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investigations that reflect β-cell function &amp; immune-mediated β-cell destruction can be used to identify the aetiology &amp; type of diabete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support for the diagnosis of T1DM include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ngXian"/>
              </a:rPr>
              <a:t>low or undetectable C-peptide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ngXian"/>
              </a:rPr>
              <a:t>presence of diabetes-associated autoantibodies (GAD/IAA/ ICA512/IA2/ZnT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9. Diabetes in Children and Adolescents. (Available at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msdmanuals.com/professional/pediatrics/endocrine-disorders-in-children/diabetes-in-children-and-adolescent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27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371520" y="2009880"/>
            <a:ext cx="8400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3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Clinical features of T1DM in children &amp; adolescen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2680" y="1690560"/>
          <a:ext cx="8377200" cy="4273560"/>
        </p:xfrm>
        <a:graphic>
          <a:graphicData uri="http://schemas.openxmlformats.org/drawingml/2006/table">
            <a:tbl>
              <a:tblPr/>
              <a:tblGrid>
                <a:gridCol w="2873160"/>
                <a:gridCol w="5504040"/>
              </a:tblGrid>
              <a:tr h="657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Age of on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Six months to young adulth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inical pres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ost often acute, rapid onset of symp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utoimmu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5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Ket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ody habi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sually lean but can be overweight following population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7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canthosis nig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Typically ab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Amin</dc:creator>
  <dc:description/>
  <dc:language>en-US</dc:language>
  <cp:lastModifiedBy>DrAmin</cp:lastModifiedBy>
  <dcterms:modified xsi:type="dcterms:W3CDTF">2016-12-28T01:16:44Z</dcterms:modified>
  <cp:revision>4</cp:revision>
  <dc:subject/>
  <dc:title>Training Module CPG T1DM - Diagnosis, Risk Factors,              Co-Morbidities &amp; Treatment Goals</dc:title>
</cp:coreProperties>
</file>